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0A7-07A0-47A1-983D-6DFA5974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763-9E3B-4105-B6E1-A7B3F81E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61A-DC6A-4A5E-947C-0FA94999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60BF-B3AC-4A67-A515-E5D6E102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3184-6146-4D50-BEDB-8F85D02A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AB43-CEFF-4040-9A46-3B0C738D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3B96-9B4B-4949-A1FA-BF11642A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7C2B-26CD-433A-92F7-7967C862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692F-EB8F-4041-A9EA-06043D80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5261-3FF9-4261-875C-D2A74898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2002-CF9B-4AF9-B06E-12D190A0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F2B-17F6-480E-BA64-7514128B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B582-4A18-407C-BE37-5A8A3A55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1DA3-F25F-45AD-95D8-AC77ABF8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3EC9-A205-45F7-AC25-6B0F10E9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BDE0-410F-4068-AF37-1BE15DCD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F364-6BD5-41D4-8CF9-E850B143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63C-6227-43F5-9311-2B16BE77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2B1-D81F-418E-83C1-090B6228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EA3C-1D69-4A8C-A379-9DBC367A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1BF-F849-4866-9EC8-6D03FC2F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8D3-7298-45D8-A564-518C2B5F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FA1-C4E4-403D-BC80-FD7FB0E3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46D-57FA-4EEB-AA09-81317E37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C277-0558-456F-B686-04E59E7D8C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C7ED-1CAF-4A11-B3C9-FFEDD0B4AE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ременное электроснабжени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51000"/>
            <a:ext cx="812160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счета потребности в электроэнергии на строительной площадке для обеспечения силовых и технологических нужд, внутреннего и наружного освещения. Модуль обеспечивает автоматизированное формирование фрагментов пояснительной записки ПОС и ППР в части расчета временного электроснабжения на строительной площадке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ОС расчет потребности в электроэнергии производится по укрупненным показателям на 1 млн. руб. стоимости годового объема СМР с учетом отрасли и района строительства по расчетным нормам. Расчет электрических нагрузок выполняется по периодам строительства или этапам работ по максимально возможной мощности потребления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ПР расчет потребности в электроэнергии определяется по установленной мощности электроприемников с учетом коэффициента спроса и распределения электрических нагрузок по времени. Общая потребность в электроэнергии рассчитывается на период максимального расхода и в часы наибольшего ее потребления. Рассматриваются следующие группы потребителей: строительная техника, технологические процессы,  внутреннее освещение, наружное освещение и сварочные трансформаторы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В программном модуле используются технологические справочники норм количества электроэнергии на 1 млн.руб. годовой стоимости СМР, нормы потребности в электроэнергии на строительную технику, нормы потребности в электроэнергии на технологические процессы, норм потребности в электроэнергии на внутреннее освещение, норм потребности в электроэнергии на наружное освещение, нормы потребности в электроэнергии на сварочные трансформаторы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9738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ввести схему (вариант) электроснабжения, далее в зависимости от указанного типа расчета задать показатели, необходимые для расчета расхода электроэнерги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536840" y="812880"/>
            <a:ext cx="6391080" cy="50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049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схемы (варианта) электроснабж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45514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вода схемы (варианта) электроснабжения необходимо задать его наименование и указать тип расчета. При необходимости можно изменить значение коэффициен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279440" y="1387440"/>
            <a:ext cx="6924600" cy="26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временного электроснабжения на основе мощности потребителе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(для ППР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потребителя электроэнерги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537696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вод потребителей для расчета потребности в электроэнергии осуществляется по группам потребителей (строительная техника, технологические процессы,  внутреннее освещение, наружное освещение и сварочные трансформаторы) с использованием справочников норм потребности в электроэнергии,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правочника строительной техники, списка строительной техники на объекте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или задается вручную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488960" y="2259000"/>
            <a:ext cx="6604200" cy="28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временного электроснабжения по укрупненным показателям годовой стоимости СМР (для ПОС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83084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чет потребности в электроэнергии на основе нормативных показателей годовой стоимости СМР производится на основании справочника норм количества электроэнергии на 1 млн. руб. годовой стоимости СМР по отраслям промышленности. Для расчета данным способом необходимо ввести ряд показателей (годовая стоимость СМР, отрасль промышленности, индекс пересчета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954000" y="1992240"/>
            <a:ext cx="7593120" cy="24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ременного электроснабжения для ПО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1557360" y="1384200"/>
            <a:ext cx="63342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563840" y="1270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ременного электроснабжения для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1592280" y="1092240"/>
            <a:ext cx="6315120" cy="558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4-10-15T13:45:25Z</dcterms:modified>
  <cp:revision>217</cp:revision>
  <dc:subject/>
  <dc:title>Слайд 1</dc:title>
</cp:coreProperties>
</file>