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187-AC18-4402-AD61-A543E84C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3A0-DFC6-4004-8EFD-07800440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29C-9289-4C31-B3DB-B3288826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BAF-AC10-4A09-AD12-EFF1B14A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3324-0CC3-410F-B424-A9A8CB6F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8DA2-1CDB-4975-AC67-40196A1C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16C4-C9E9-4D2B-A388-847399C7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4B60-275D-4993-B826-45E76A1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A448-6549-4361-B333-72E64F65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4866-613E-4753-9D84-29BCA51F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7E7-FF07-4B61-BA10-3C7AB4D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97C-DB39-412E-B47D-5F3F9AF1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3D12-287D-4DF0-92AA-19F4B378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CADB-8C90-4CD0-BA33-1A6F0598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A2E0-D841-4DDB-804D-006B0A8C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119B-35A9-4FA2-B12A-A0930866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2132-E940-4FBE-BCDB-F9401CB6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14C-EF61-44B4-9BF1-D134F18B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F7B-9060-415A-A08A-C51C92EA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82B-F41D-4FE9-9C9A-92618D72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2D5-A8A6-4738-8947-3EB4DE24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6DF-6A5A-4EC1-AE55-512B63C9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315-5076-4E1F-A425-0032138D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911-B145-4A69-A0FF-9995E82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00D5-CA6B-45E4-A454-49BEF55F6D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63A4-AEB8-4F0D-A998-401C63033E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водоснабж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диаметра тру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16040" y="41194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извести расчет необходимого диаметра труб временной водопроводной напорной се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639800" y="1328760"/>
            <a:ext cx="664380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водоснабже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500120" y="1407960"/>
            <a:ext cx="644832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водоснабжения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1638360" y="1374840"/>
            <a:ext cx="640080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996840"/>
            <a:ext cx="812160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ления воды на строительной площадке для обеспечения производственных, хозяйственных и противопожарных нужд. Модуль обеспечивает автоматизированное формирование фрагментов пояснительной записки ПОС и ППР в части расчета временного водоснабжения на строительной площадк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потребности в воде на производственные и хозяйственно-бытовые нужды производится по укрупненным показателям на 1 млн. руб. стоимости годового объема СМР с учетом отрасли и района строительства по расчетным нормам. Расход воды на противопожарные нужды принимается согласно нормативным документам. Также имеется возможность определения суммарного расхода воды на объекте и расчета диаметра труб временного трубопровод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потребности в воде на производственные нужды производится на основании данных о конкретных потребителях в наиболее загруженную смену. Расход воды на хозяйственно-бытовые нужды также определяется по конкретным потребителям по нормативным показателям. Расход воды на противопожарные нужды производится раздельно для наружного и внутреннего пожаротушения в соответствии с назначением и объемом зданий заданной функциональной пожарной опасности. Также имеется возможность определения суммарного расхода воды на объекте и расчета диаметра труб временного трубопровод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технологические справочники норм расхода воды на производственные нужды, норм количества воды на 1 млн.руб. годовой стоимости СМР, норм расхода воды на хозяйственно-питьевые нужды и пропускной способности труб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7308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9738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схему (вариант) водоснабжения, далее в зависимости от указанного типа расчета задать ряд показателей, необходимых для расчета расхода воды на производственные, хозяйственно-бытовые нужды и пожаротуш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01800" y="952560"/>
            <a:ext cx="7421400" cy="49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схемы (варианта) водоснаб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640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схемы (варианта) водоснабжения необходимо задать его наименование и указать тип расчета. При необходимости можно изменить значения коэффициен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584360" y="1319040"/>
            <a:ext cx="6348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с учетом работы производственных потребителей 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производственного потребите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2498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од производственных потребителей для расчета потребления воды на производственные нужды производится с использованием справочника норм расхода воды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а строительной техники, списка строительной техники на объекте  или задае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21000" y="2246400"/>
            <a:ext cx="660060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с учетом работы производственных потребителей 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хозяйственные нуж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ления воды на хозяйственные нужды необходимо ввести численность работающих в наиболее загруженную смену. При необходимости можно уточнить число часов в смене, а также задать ряд показателей для учета водоснабжения душевых и столов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76440" y="2568600"/>
            <a:ext cx="8151480" cy="29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по укрупненным показателям годовой стоимости СМР (для ПОС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производственные и хозяйственно-бытовые нуж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57326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расхода воды на производственные и хозяйственно-бытовые нужды производится на основании справочника норм количества воды на 1 млн. руб. годовой стоимости СМР по отраслям промышлен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611280" y="2612880"/>
            <a:ext cx="818676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4446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пожаротуш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(для ПОС и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16040" y="4653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потребления воды на пожаротушение сначала необходимо задать способ расчет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кумент - основани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МДС 12-46.2008, МГСН 1.01-99 или СП (строительные правила). Далее ввести все показатели, необходимые для расчета расхода воды для выбранного способа рас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69880" y="1509840"/>
            <a:ext cx="816300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общего потребления во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объект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040" y="452592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извести расчет максимально возможного потребления воды на стройплощадке на производственные и хозяйственно-бытовые нужды (без учета пожаротушения) по выбранным схемам (вариантам) временного водоснаб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822320" y="1574640"/>
            <a:ext cx="6351840" cy="274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3:18:12Z</dcterms:modified>
  <cp:revision>215</cp:revision>
  <dc:subject/>
  <dc:title>Слайд 1</dc:title>
</cp:coreProperties>
</file>